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46FE-99AE-474D-8C9C-A5D01D2DA4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2044-AF67-4F6A-B703-24D13BEE5A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F633-8794-4D35-A04C-9EB4F0AC41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5A5B-9858-4A9D-BF51-CF8DBB0B17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D336-79AC-434A-93E3-F1CED53B93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14FF-F0A7-406F-A89C-F5FC05210B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1C84-DC5D-4E96-A209-EE06E5E371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AD2-D449-49EB-B1B2-9F2C3583D8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732E-719A-4ABF-8F06-CF4F73A43B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39B9-D1F4-4620-AACF-F56945057F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C526-6BB6-4122-B629-F48A70916E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789B-629A-434F-A4DE-107150A8A2F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7AF-062E-4D2A-B924-D68C585BB69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3C6-6549-428D-AE3F-1B246C186C8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AD11-BD26-4988-B912-CC20BEDA0F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96E0-5FDD-4274-9A5F-D36CC3BAA7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69A3-819D-453B-B804-A5FE6631E83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AE8-7F7B-4F20-AEDB-FD54E7527C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3B3-33B3-40FD-B68A-1CEBC89CD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94A9-3FDF-48D1-B002-75F84227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482-5078-4EC3-BF58-7566CDD1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078-C41B-4BE4-B452-98293B8E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7FA-01CE-4D32-B716-900EFFF8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E1F3-0B2C-402B-AD1F-10648A5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72D6-3C15-4FA3-958B-6B34929E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118-81C1-422A-A8BF-8B722B5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DC60-A931-4881-A654-E3235704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1065-47E3-44BC-9935-BD8E801A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3CEC-EE75-468F-91DD-582A006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2F3-9D3E-49B2-8640-3C10260D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DED2-1CC3-44B9-A7D0-69D949E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AF6E-F7CC-49DC-875D-F5C032A0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B568-C3A7-41E0-A375-1A977F4E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9868-65BB-4F25-A795-739911DDD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1E2-BDA3-4B22-9824-9C2AFB4D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C15-7E92-455F-8BF0-2AB5A3AF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1EA-34DE-4D7D-B617-F7338E01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EEF-7EFB-45A2-BEA0-45FEA45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6C8-4807-428C-AC30-0EBBA53E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34C-0D6C-47B8-909F-2D4B7A67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A14-FBC8-476F-AF74-5509508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156-550D-4927-AFD6-91E31D9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20C-AE96-4100-BAAC-680823FD1E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8203-54A7-47E9-9F95-B9813A9E4DA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56000" y="5660640"/>
            <a:ext cx="2663640" cy="79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Insegnante: </a:t>
            </a:r>
            <a:br>
              <a:rPr sz="2000"/>
            </a:b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Vincenza D’Alesio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7280" y="47628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UOLA PRIMA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Users\Enza\Downloads\Vicenza.jpg"/>
          <p:cNvPicPr/>
          <p:nvPr/>
        </p:nvPicPr>
        <p:blipFill>
          <a:blip r:embed="rId1"/>
          <a:stretch/>
        </p:blipFill>
        <p:spPr>
          <a:xfrm>
            <a:off x="1979640" y="1052640"/>
            <a:ext cx="4653000" cy="3095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1403280" y="4076640"/>
            <a:ext cx="5616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Scopriamo le origini dei Veneti</a:t>
            </a:r>
            <a:br>
              <a:rPr sz="3200"/>
            </a:br>
            <a:r>
              <a:rPr b="0" lang="it-IT" sz="3200" spc="-1" strike="noStrike">
                <a:solidFill>
                  <a:srgbClr val="ff0000"/>
                </a:solidFill>
                <a:latin typeface="Times New Roman"/>
              </a:rPr>
              <a:t>attraverso testimonianze scritte ed arche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a scrittura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lingua dei Veneti antichi si chiama Venet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La lingua venetica è "parente" del latino dal quale deriva la nostra lingua italiana. I Veneti impararono la scrittura dagli Etruschi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l reperto che testimonia l'arrivo della scrittura nel Veneto è una coppa in bron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on un'iscrizione dedicata alle divinità, realizzata nel VI secolo avanti Cris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scrittura venetic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ocedeva da destra a sinist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e paro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non erano divise m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ritte tutte di segui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C'erano anche dei punti che però non servivano da pause, ma erano utilizzati per dividere le sillabe. Questo modo di scrivere, senza separare le parole, viene chiamato dagli esperti "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criptio contin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2209680" y="5105520"/>
          <a:ext cx="4953240" cy="13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105520"/>
                    <a:ext cx="495324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http://www.istruzionealtivole.it/public/ricerche/ALTIVOLE.PRIMARIA/PALEOVENETI/scrittura_file/image003.jpg"/>
          <p:cNvPicPr/>
          <p:nvPr/>
        </p:nvPicPr>
        <p:blipFill>
          <a:blip r:embed="rId1"/>
          <a:stretch/>
        </p:blipFill>
        <p:spPr>
          <a:xfrm>
            <a:off x="3886200" y="1219320"/>
            <a:ext cx="4876920" cy="4647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Leggere e scrivere</a:t>
            </a:r>
            <a:r>
              <a:rPr b="0" lang="it-IT" sz="2000" spc="-1" strike="noStrike">
                <a:solidFill>
                  <a:srgbClr val="6600ff"/>
                </a:solidFill>
                <a:latin typeface="Arial Unicode MS"/>
                <a:ea typeface="Arial Unicode MS"/>
              </a:rPr>
              <a:t> 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304560"/>
            <a:ext cx="3581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 Veneti imparavano a leggere e a scrivere nei santua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loro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enna era uno sti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appuntito nella parte inferiore, mentre nella parte superiore aveva una specie di "spatolina" che funzionava da gomma per cancellare;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l loro quaderno era una tavoletta ricoperta di c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Forse, i Veneti che imparavano a leggere e a scrivere avevano anche i libri per "studiare": 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avolette alfabetiche in metal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nelle qual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erano incise le vocali e le consonanti dell'alfabe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Le scritte in venetico si trovano nei reperti ritrovati nelle tombe o nei santuari;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utte le iscrizioni sono votive, cioè con la dedica agli dè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48624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6383160" cy="5167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35816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a religione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 Veneti antich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onsideravano gli elementi naturali come elementi sacri</a:t>
            </a:r>
            <a:r>
              <a:rPr b="1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 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o di questi elementi er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'acqu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Era considerata sacra ed era usata come oggetto di culto, infatti attorno ai santuari (=templi) c'era spesso un corso d'acqua. 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lto elemento sacr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rano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e piant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I Veneti antichi credevano che le piante fossero abitate da divinità protettrici del luo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doravano più di una divin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tra quest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principale era Reitia,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iamata anche Pora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itia era la divinit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ortatrice di salute,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ignora della natur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rotettrice delle nascit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de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ella fertil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per questo era venerata soprattutto dalle donne.</a:t>
            </a:r>
            <a:br>
              <a:rPr sz="2000"/>
            </a:b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a dea Reitia 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sempre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rappresenta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ome una donna vestit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con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il tipico costume veneto: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o scialle, un'ampia gonna, gli stival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; in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mano tiene la chiave per aprire la porta della vita nell'aldil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. Accanto a lei si trovano sempre rappresentati animali e pi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I luoghi di culto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91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avevano costruito luoghi di culto (=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uoghi dove andare a pr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 e santuari (=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templi dedicati alle divin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), sparsi in tutto il territorio da loro abita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a i luoghi di culto che i santuari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sempre all'aper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in ampi prati oppure nei boschi sacr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ssi erano sempre situati all'esterno delle zone abitate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vicino ai corsi d'acqu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a piccoli laghetti, alle fonti o alle sorgenti dei fium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à i Veneti antichi andavano a compiere riti e a offrire doni per chiedere la protezione degli dè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1640" y="99072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Un rito sacro era la libagione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e consistev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ell'offrire agli dei delle bevande, come vino, latte, miele e acqu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volte, compivano un rito durante il quale sacrificavano gli animali. Quando chiedevano la protezione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i Veneti offrivano agli dèi acqua e doni: ex vot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Gli ex voto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oggetti in bronzo o in ceramica che si gettavano nelle acque sacre o si appendevano agli alber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forma degli ex voto dipendeva sempre dalla grazia che si chiedeva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romanizzazione, cioè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quando i Veneti diventarono simili ai Romani per lingua, costumi e abitudi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vvenne lentamente e pacificamen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Veneti si erano già alleati con i Romani per sconfiggere i Galli.</a:t>
            </a: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l II secolo a.C per i Veneti fu un periodo di crisi e i Romani ne approfittarono per allargare il loro impe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vinser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 inserirsi nell'Impero Romano, facendoli diventa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ittadini roma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er un po' di tempo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 usarono sia 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ngua venetic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sia la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ngua latin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poi il latino diventò la lingua dei Veneti.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La romanizzazione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48624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666880" y="4800600"/>
            <a:ext cx="3640320" cy="140004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255680" cy="1619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Cultura</a:t>
            </a:r>
            <a:r>
              <a:rPr b="0" lang="it-IT" sz="32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7617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famiglia vene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ra la base fondamentale dell’ intera organizzazione sociale.La struttura familiare era rigida e protetta da regole ferre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l capo – famigli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teneva l’autorità sui membri del nucleo familiare; tutti dovevano obbedienza e rispetto. 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donn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veva un ruolo fondamentale, con dignità ed autorità quasi pari a quelle del marito. Le donne si mostravano in pubblico di rado, forse solamente in occasione tradizionali che segnano la vita di una comunità: le nascite, i matrimoni, la sepoltura dei morti.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utti i componenti il nucleo familia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tecipavano alle occupazioni quotidiane per procurarsi ed assicurarsi il cibo e i materiali necessari: l’allevamento del bestiame, la coltura degli orti, la caccia e la pesca, la tessitura, la lavorazione del cuoio e delle pelli, la raccolta e la lavorazione del legno. Allo stesso modo la famiglia si procurava il nutrimento, gli abiti, il fuoco, l’abitazion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giova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pprendevano i mestieri, le tecniche di uso comun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metodi di coltivazione dell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 ragazz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invece, imparavano a filare le lane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sere tele, a lavorare le pelli di anima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00ff"/>
                </a:solidFill>
                <a:latin typeface="Arial"/>
              </a:rPr>
              <a:t>Organizzazione Sociale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686800" cy="609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ocietà degli antichi Veneti conosceva delle differenze anche notevoli tra individuo ed individuo, tra classe e classe.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 vert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lla scala soc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tavano i “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Arial"/>
              </a:rPr>
              <a:t>SIGNORI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”,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più ricchi tra i lavor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 coloro che, nell’occasione di qualche guerra, avevano modo di salire ai massimi onori. Sempr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la classe superiore appartenevano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sacerdo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 quali indossavano ricche vesti, forniti di copricapo e calzature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nche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cavalieri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occupavano una posizione importan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fascia centr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 composta da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lavor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, in varie forme, potevano dirsi autonomi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rtigiani, mercanti, agricoltori, cacciatori e pesca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d essi si aggiungevano i guerrie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classe più modesta era quella dei </a:t>
            </a:r>
            <a:r>
              <a:rPr b="0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servi</a:t>
            </a:r>
            <a:r>
              <a:rPr b="0" lang="it-IT" sz="20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llocata al gradino più basso della scala sociale e rappresentata da individui </a:t>
            </a:r>
            <a:r>
              <a:rPr b="1" lang="it-IT" sz="1600" spc="-1" strike="noStrike" u="sng">
                <a:solidFill>
                  <a:srgbClr val="cc3300"/>
                </a:solidFill>
                <a:uFillTx/>
                <a:latin typeface="Arial"/>
              </a:rPr>
              <a:t>scalzi con vesti semplicissime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’ probabile che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i lavoratori fossero riuniti in associazio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rporazio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per i tipi di attività che richiedevano una più alta specializzazione. Ugualment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uniti tra lo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a interessi comun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rano 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commercia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he traevano forti guadagni dalla vendita di materiali e prodotti che godevano di maggiore apprezzamento da parte di altre popolazioni.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Arial"/>
              </a:rPr>
              <a:t>guerrieri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vene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n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rmati in modo sim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 a quello de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uerrieri greci e troian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 Il capo era protetto dall’elmo a calotta  bassa, il busto era rivestito da una corazza di cuoio irrobustito con  lamine bronzee; le gambe erano riparate da schinier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ff"/>
                </a:solidFill>
                <a:latin typeface="Arial"/>
              </a:rPr>
              <a:t>Organizzazione Sociale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rmamento era completato dall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udo, rotond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me quello degli opliti greci, dal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pad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d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una o due lan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a punta a foglia di alloro. 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cavalieri montavano senza sel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Disponevano inoltre di cocchi da guerra trainati dai robusti cavalli vene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gni villaggio era indipen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  popolo venet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i univ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mettendo insieme tutte le forze disponibi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caso di minaccia dall’ester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i guerra. In queste occasion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 vari villagg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rano collegati da un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atto di reciproco aiu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durava fino al cessare del pericolo.  In questi casi gli abitanti maggiori ( Este, Padova ,Vicenza, Oderzo, Montebelluna  ) facevano da centro di riferimento e di guida per i villaggi di minori dimensioni.  Concludendo, anche per una popolazione tendenzialmente pacifica come quella veneta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a guerra e i guerrieri avevano ugualmente un posto centrale nell’organizzazione soc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Ad ess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ra affidato un compito soprattutto difens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protezione della vita e dei beni delle comunità confederate, la garanzia di sicurezza delle vie di comunicazione, il mantenimento delle condizioni di 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Baveuse 3D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'origine</a:t>
            </a:r>
            <a:br>
              <a:rPr sz="4400"/>
            </a:b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fonti scritte narrano che il popolo dei Veneti, che i Greci chiamavano Enetoi, veniva dalla Paflagonia, una regione dell'attuale Turchia. 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ito Livio, storico latino vissuto nel I secolo a.C., raccon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"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…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gli Enetoi (=Veneti), cacciati per una guerra dalla Paflagonia, con il loro comandante Pilem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è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ne vennero in aiuto ai Troiani nella guerra contro i Greci.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Durante la guerra, il capo del loro esercito, Pilem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è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ne, mor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ì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in un duello.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Persa la guerra con la caduta di Troia e rimasti senza il loro condottiero, i Veneti non tornarono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Times New Roman"/>
              </a:rPr>
              <a:t>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pi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ù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Times New Roman"/>
              </a:rPr>
              <a:t> nel loro territorio.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Times New Roman"/>
              </a:rPr>
              <a:t> </a:t>
            </a:r>
            <a:r>
              <a:rPr b="1" i="1" lang="it-IT" sz="2000" spc="-1" strike="noStrike">
                <a:solidFill>
                  <a:srgbClr val="000099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99"/>
                </a:solidFill>
                <a:latin typeface="바탕"/>
                <a:ea typeface="Arial Unicode MS"/>
              </a:rPr>
              <a:t>     </a:t>
            </a: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Arial Unicode MS"/>
              </a:rPr>
              <a:t>Scelsero allora come loro nuovo comandante Antenore, un principe troiano, e partirono con alcune navi per occupare nuovi territori dove stabilirsi.</a:t>
            </a:r>
            <a:br>
              <a:rPr sz="2000"/>
            </a:br>
            <a:r>
              <a:rPr b="1" i="1" lang="it-IT" sz="2000" spc="-1" strike="noStrike" u="sng">
                <a:solidFill>
                  <a:srgbClr val="000099"/>
                </a:solidFill>
                <a:uFillTx/>
                <a:latin typeface="바탕"/>
                <a:ea typeface="Arial Unicode MS"/>
              </a:rPr>
              <a:t>Risalirono il mare Adriatico, sbarcarono, espulsero gli Euganei abitanti fra le Alpi e il mare e occuparono quella contrada (il nostro territorio)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5715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Itinerario storico</a:t>
            </a:r>
            <a:br>
              <a:rPr sz="3600"/>
            </a:br>
            <a:r>
              <a:rPr b="0" lang="it-IT" sz="36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0" lang="it-IT" sz="3600" spc="-1" strike="noStrike">
                <a:solidFill>
                  <a:srgbClr val="ff0066"/>
                </a:solidFill>
                <a:latin typeface="Times New Roman"/>
              </a:rPr>
              <a:t>Itinerario leggendario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06" name="Picture 3" descr="http://www.istruzionealtivole.it/public/ricerche/ALTIVOLE.PRIMARIA/PALEOVENETI/migrazioni_file/image002.gif"/>
          <p:cNvPicPr/>
          <p:nvPr/>
        </p:nvPicPr>
        <p:blipFill>
          <a:blip r:embed="rId1"/>
          <a:stretch/>
        </p:blipFill>
        <p:spPr>
          <a:xfrm>
            <a:off x="380880" y="190512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"/>
          <p:cNvSpPr/>
          <p:nvPr/>
        </p:nvSpPr>
        <p:spPr>
          <a:xfrm>
            <a:off x="1403280" y="90792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403280" y="33336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terzocircolotv.it/sgbosco/progetti/archivio/veneti_antichi/territorio/territorio_1.jpg"/>
          <p:cNvPicPr/>
          <p:nvPr/>
        </p:nvPicPr>
        <p:blipFill>
          <a:blip r:embed="rId1"/>
          <a:stretch/>
        </p:blipFill>
        <p:spPr>
          <a:xfrm>
            <a:off x="3592440" y="1295280"/>
            <a:ext cx="4138560" cy="48294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Il territorio</a:t>
            </a:r>
            <a:r>
              <a:rPr b="0" lang="it-IT" sz="4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Veneti si sono stabiliti in un territorio molto esteso che corrisponde all'incirca alle attuali Tre Venezie: Trentino-Alto-Adige, Veneto, Friuli-Venezia-Giul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È un territorio che ha un paesaggio geografico molto vari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 ci sono le Alpi, con le alte cime ed i ghiacciai, sembra invalicabile ma, tra le sue valli e suoi passi, nasconde antiche "piste" che seguono il corso dei fiumi, conosciute e percorse già prima all'arrivo dei Vene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8608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2733840" cy="2581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Alta pianura e bassa pianura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 pianura è divisa, dalla linea delle acque di risorgiva, in alta pianura, quella più vicina ai monti, ghiaiosa ed asciutta, e in bassa pianura con il terreno ricco di acque ed argill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È quasi certo che i Veneti antichi si sono insediati in questo territorio perché era un territorio molto fertile. Era ricco d'acqua, era pianeggiante e aveva molti passaggi tra le montagne che i Veneti potevano usare, se volevano raggiungere luoghi lontani, per scambiare i loro prodotti con gli altri pop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'allevamento dei cavalli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lle fonti scritte e dai reperti ritrovati, sappiamo che l'allevamento dei cavalli veneti era famoso in tutto il mondo di allora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mero, fra gli autori più antichi, è stato il primo a citare i cavalli veneti. Egli nell'Iliade, il poema che narra la guerra di Troia, scrive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"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…Pilemene dal forte cuore guida i Paflagoni che vengono dagli Eneti, il paese delle mule selvagge…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"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cavalli venivano allevati allo stato semibrado cioè in branchi che vivevano liberi in zone controlla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rabone, storico e geografo greco vissuto nel I secolo a.C., racconta che i cavalli veneti venivano marchiati con la testa di un lupo e perciò egli li chiama "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valli lupife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mpre Strabone racconta che i cavalli veneti erano ammirati anche da Dionisio, il tiranno di Siracusa, che li acquistava per migliorare le razze dei suoi allevamen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quel tempo i Veneti, quando andavano a chiedere un "aiuto" alle divinità, offrivano degli ex-voto tra cui piccoli cavalli fatti di pietra o di metallo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http://www.istruzionealtivole.it/public/ricerche/ALTIVOLE.PRIMARIA/PALEOVENETI/attivita_file/image003.gif"/>
          <p:cNvPicPr/>
          <p:nvPr/>
        </p:nvPicPr>
        <p:blipFill>
          <a:blip r:embed="rId1"/>
          <a:stretch/>
        </p:blipFill>
        <p:spPr>
          <a:xfrm>
            <a:off x="4495680" y="304920"/>
            <a:ext cx="3200400" cy="150156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4"/>
          <p:cNvGraphicFramePr/>
          <p:nvPr/>
        </p:nvGraphicFramePr>
        <p:xfrm>
          <a:off x="5562720" y="304920"/>
          <a:ext cx="327636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04920"/>
                    <a:ext cx="327636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Il commercio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Veneti antichi commerciavano con tutti i popoli che vivevano nei territori vicini, soprattutto con gl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Etrus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e con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Greci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ma anche con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Roma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 e 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popo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che abitavano nei territor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dell'Europa del nord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lle popolazioni che vivevano nell'Europa del nord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acquistavano lo stagno che era necessario per produrre il bron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, la lega che poi loro utilizzavano per costruire le armi, gli oggetti di ornamento e gli utensili di cui avevano bisogno per svolgere le loro attivi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neti scambiava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con gli altri popoli, i loro prodotti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ggetti in bronzo e in ceramica, tessuti, vino, cereali e caval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l'inizio barattavano (=scambiavano) i loro prodotti con quelli degli altri popoli. Più tardi, verso il IV-III secolo a.C., fu introdotta ed utilizzata la moneta.</a:t>
            </a: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mercanti veneti erano famos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in tutto il mondo di allora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 l'ambra che è una resina prodotta dalle piante e fossilizzata.</a:t>
            </a:r>
            <a:br>
              <a:rPr sz="2000"/>
            </a:br>
            <a:br>
              <a:rPr sz="2000"/>
            </a:b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7620120" y="4952880"/>
          <a:ext cx="12096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4952880"/>
                    <a:ext cx="12096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Arial Unicode MS"/>
                <a:ea typeface="Arial Unicode MS"/>
              </a:rPr>
              <a:t>La metallurgia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I Veneti antichi conoscevano e praticavano la metallurgia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cioè la tecnica per la lavorazione dei metalli, che scoprirono intorno al IX (nono) secolo a.C. .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Usavano metalli come il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rame, lo stagno, il bron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he è una lega che si ottiene fondendo insieme rame e stagno, l'argento, l'oro e, dal V (quinto) secolo a.C., il ferr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l bronzo giungeva dal Trentino allo stato in parte lavorato sotto forma di blocchetti denominati "pani"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il ferro giungeva dai monti metalliferi dell'Etruria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er estrarre il metallo, frantumavano le rocce fino ad ottenere una specie di sabbia che poi veniva messa nei forni ad alta temperatura per far fondere il metall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forni venivano riscaldati bruciando la legna.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 Veneti erano molto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esperti nella lavorazione su lamina di bron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che decoravano con disegni geometrici o con disegni di animali, piante, divinità, usando 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tecnica dell'incisione e dello sbalzo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'incisione e lo sbalzo venivano eseguiti dall'artigiano sul rovescio dell'oggetto da decorare, incidendo e battendo con attrezzi come punteruoli, stili e martelli. 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vorando sul rovescio della lamina si otteneva poi sul davanti la decorazione voluta</a:t>
            </a:r>
            <a:r>
              <a:rPr b="0" lang="it-IT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.terzocircolotv.it/sgbosco/progetti/archivio/veneti_antichi/costumi/costumi_2.jpg"/>
          <p:cNvPicPr/>
          <p:nvPr/>
        </p:nvPicPr>
        <p:blipFill>
          <a:blip r:embed="rId1"/>
          <a:stretch/>
        </p:blipFill>
        <p:spPr>
          <a:xfrm>
            <a:off x="2514600" y="4191120"/>
            <a:ext cx="4343400" cy="17366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990000"/>
                </a:solidFill>
                <a:latin typeface="Arial"/>
                <a:ea typeface="Arial Unicode MS"/>
              </a:rPr>
              <a:t>L'abbigliamento</a:t>
            </a:r>
            <a:br>
              <a:rPr sz="3200"/>
            </a:b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vestiti indossati dai Veneti ant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enivano confezionati con i tessuti prodotti dalle donne, che erano molto esperte nella filatura e nell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ssitura delle lane e delle fibre vege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se il colore più usato per tingere i tessuti era l'azzurro perché, a quei tempi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parola "veneto" serviva per indicare il colore azzur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li uomini più importanti portavano il mantello che veniva poi fermato con lo spillone. Le donne più importanti, invece, portavano lo scialle che copriva i capelli e scendeva sulle spalle, come un velo;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 fermare lo scialle le donne usavano la fibu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=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ill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6:06:08Z</dcterms:created>
  <dc:creator>Enza</dc:creator>
  <dc:description/>
  <dc:language>en-US</dc:language>
  <cp:lastModifiedBy>Enza</cp:lastModifiedBy>
  <dcterms:modified xsi:type="dcterms:W3CDTF">2013-04-15T18:55:57Z</dcterms:modified>
  <cp:revision>28</cp:revision>
  <dc:subject/>
  <dc:title>Scopriamo le origini dei Veneti attraverso testimonianze scritte ed archeologiche</dc:title>
</cp:coreProperties>
</file>